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5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B1D2-C421-4A00-9972-AC6CA19259B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2FD9-BEA4-4AAC-8EE6-CD7F0E1D70CE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B468-642C-46FC-8FAF-527434945332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3F4B-2A82-4563-B767-5F02B47A932A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4AE6-5C6D-477E-92C2-435A960E1B56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1693-7880-43EF-BB4F-E6DABCA9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6AC3-CE3B-44FE-971C-59229B10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2B6B-1CAA-4F13-9ACA-2FF95AA7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843F-A612-40C8-BDDE-479D0F55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14C1-F4F1-415F-B051-B83FA798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C1C3-D0D4-426B-A805-4668F3A9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9C68-A24A-43A4-BA81-C9EC9E67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1342-EFCC-4C59-81AE-F9B6883C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FE4C-E578-4286-A57B-4EBD9DDB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7701-DDC3-45AF-9B24-B16B6E69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AA8E-0921-439C-8CA8-30014C48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692-8B79-478E-A2C1-E4206F8C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165D-AE59-4C41-804F-AC0F62DA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31E3-9B1C-451C-9030-8D108A7F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DE40-32D5-4154-9623-806CC77B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83D1-EF60-44A1-A820-363F97E2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F3CF-3D30-4AD6-80C1-53AC0423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30DA6-B690-41E9-B932-EE11E1A4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6D5F5-0DA4-43BC-A894-3E783258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D53DE-65E2-401D-A867-7D03BD4B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506D8-9C5F-4449-A4CA-F0A411C2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47BE3-6180-4C33-A8DA-0C0F10DD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F99-523C-43B1-929C-7AEC5CDC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D8AE1-441F-479C-97A7-C4DF82CA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31873-54FC-4AE4-9CA3-8DE38A2E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18DEC-CF5B-4505-80FA-3A3F4A81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D94BC-4ADF-4DD8-85D1-838C0DC3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DC454-9FC6-406F-94C6-C0771F19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9DA8B-251E-459B-A1B7-63299CF0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15086-A22D-4C91-9D90-BAC35413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2594-2DFA-4762-A5AB-C76FFD2B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CE4C-60C4-4678-9427-8084F300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CBA6-0519-47FE-AE25-4BCDFDB9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8737-BE6B-4CC4-A8A1-2B4A4D37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FC56-45EB-4E65-A27E-54E20EF6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25BA-04A2-4D04-A0CD-B82C8D9D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3AA3-CA85-471D-B559-61C39590FBAC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ight Triangle 6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3" name="Freeform 9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11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Freeform 12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46" name="Freeform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48" name="Straight Connector 13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2AB8-D6A8-488A-8371-87A346B65468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reeform 6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Freeform 7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3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5" name="Straight Connector 11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89C5-52A7-4A1B-8233-9D2ECD74B90A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1143000" y="1295280"/>
            <a:ext cx="723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Dichotomous Key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7" descr="http://www.quia.com/files/quia/users/hlrbiology/Honors_Biology/10_Classification/dichotomous_key01.jpg"/>
          <p:cNvPicPr/>
          <p:nvPr/>
        </p:nvPicPr>
        <p:blipFill>
          <a:blip r:embed="rId1"/>
          <a:stretch/>
        </p:blipFill>
        <p:spPr>
          <a:xfrm>
            <a:off x="1905120" y="2514600"/>
            <a:ext cx="57150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http://www.saskschools.ca/curr_content/biology20/Library/spider_key.gif"/>
          <p:cNvPicPr/>
          <p:nvPr/>
        </p:nvPicPr>
        <p:blipFill>
          <a:blip r:embed="rId1"/>
          <a:stretch/>
        </p:blipFill>
        <p:spPr>
          <a:xfrm>
            <a:off x="304920" y="1028880"/>
            <a:ext cx="8458200" cy="2857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http://www.saskschools.ca/curr_content/biology20/Library/dich_key.gif"/>
          <p:cNvPicPr/>
          <p:nvPr/>
        </p:nvPicPr>
        <p:blipFill>
          <a:blip r:embed="rId2"/>
          <a:srcRect l="0" t="20998" r="0" b="0"/>
          <a:stretch/>
        </p:blipFill>
        <p:spPr>
          <a:xfrm>
            <a:off x="304920" y="4329000"/>
            <a:ext cx="8653320" cy="24526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380880" y="6238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xample of the Graphic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80880" y="39006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xample of the Written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28600" y="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da2bf"/>
                </a:solidFill>
                <a:latin typeface="Arial"/>
              </a:rPr>
              <a:t>Answ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228600" y="1371600"/>
            <a:ext cx="7924680" cy="57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 u="sng">
                <a:solidFill>
                  <a:srgbClr val="ffffff"/>
                </a:solidFill>
                <a:uFillTx/>
                <a:latin typeface="Lucida Sans Unicode"/>
              </a:rPr>
              <a:t>Part A:Using a Dichotomous Key</a:t>
            </a:r>
            <a:r>
              <a:rPr b="0" lang="en-CA" sz="2700" spc="-1" strike="noStrike">
                <a:solidFill>
                  <a:srgbClr val="ffffff"/>
                </a:solidFill>
                <a:latin typeface="Lucida Sans Unicode"/>
              </a:rPr>
              <a:t>: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CA" sz="2700" spc="-1" strike="noStrike">
                <a:solidFill>
                  <a:srgbClr val="ffffff"/>
                </a:solidFill>
                <a:latin typeface="Lucida Sans Unicode"/>
              </a:rPr>
              <a:t>P. 32 Steps 1-4—individua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Lucida Sans Unicode"/>
              </a:rPr>
              <a:t>Part B:  Constructing a Dichotomous Key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P. 33—alone or with a partn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Lucida Sans Unicode"/>
              </a:rPr>
              <a:t>HWK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:  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1) Complete pgs. 32-33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2) Answer pg. 20#5,6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Lucida Sans Unicode"/>
              </a:rPr>
              <a:t>This will help you with the evaluation on Dichotomous Keys on </a:t>
            </a:r>
            <a:r>
              <a:rPr b="1" i="1" lang="en-US" sz="2700" spc="-1" strike="noStrike" u="sng">
                <a:solidFill>
                  <a:srgbClr val="ffffff"/>
                </a:solidFill>
                <a:uFillTx/>
                <a:latin typeface="Lucida Sans Unicode"/>
              </a:rPr>
              <a:t>Frida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228600" y="4572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da2bf"/>
                </a:solidFill>
                <a:latin typeface="Arial"/>
              </a:rPr>
              <a:t>From the textbo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6840" y="838080"/>
            <a:ext cx="8186760" cy="28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55240" indent="-178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Sans Unicode"/>
              </a:rPr>
              <a:t>Dichotomous classification keys are used to help place organisms into the appropriate classification group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5240" indent="-178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Sans Unicode"/>
              </a:rPr>
              <a:t>It is a tool that allows the user to determine the identity of items in the natural world, such as trees, wildflowers, mammals, reptiles, rocks and fis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5240" indent="-178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Sans Unicode"/>
              </a:rPr>
              <a:t>These keys consist of a series of choices that lead the user to the correct name of a given organ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5240" indent="-178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r>
              <a:rPr b="1" lang="en-CA" sz="2800" spc="-1" strike="noStrike">
                <a:solidFill>
                  <a:srgbClr val="da1f28"/>
                </a:solidFill>
                <a:latin typeface="Lucida Sans Unicode"/>
              </a:rPr>
              <a:t>Dichotomous</a:t>
            </a:r>
            <a:r>
              <a:rPr b="0" lang="en-CA" sz="2800" spc="-1" strike="noStrike">
                <a:solidFill>
                  <a:srgbClr val="ffffff"/>
                </a:solidFill>
                <a:latin typeface="Lucida Sans Unicode"/>
              </a:rPr>
              <a:t>” means “</a:t>
            </a:r>
            <a:r>
              <a:rPr b="1" lang="en-CA" sz="2800" spc="-1" strike="noStrike">
                <a:solidFill>
                  <a:srgbClr val="da1f28"/>
                </a:solidFill>
                <a:latin typeface="Lucida Sans Unicode"/>
              </a:rPr>
              <a:t>cut into 2 parts</a:t>
            </a:r>
            <a:r>
              <a:rPr b="0" lang="en-CA" sz="2800" spc="-1" strike="noStrike">
                <a:solidFill>
                  <a:srgbClr val="ffffff"/>
                </a:solidFill>
                <a:latin typeface="Lucida Sans Unicode"/>
              </a:rPr>
              <a:t>”. Therefore, these keys should always give </a:t>
            </a:r>
            <a:r>
              <a:rPr b="1" lang="en-CA" sz="2800" spc="-1" strike="noStrike">
                <a:solidFill>
                  <a:srgbClr val="da1f28"/>
                </a:solidFill>
                <a:latin typeface="Lucida Sans Unicode"/>
              </a:rPr>
              <a:t>two choices</a:t>
            </a:r>
            <a:r>
              <a:rPr b="0" lang="en-CA" sz="2800" spc="-1" strike="noStrike">
                <a:solidFill>
                  <a:srgbClr val="ffffff"/>
                </a:solidFill>
                <a:latin typeface="Lucida Sans Unicode"/>
              </a:rPr>
              <a:t> in each st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5240" indent="-178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5240" indent="-178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Title 3" descr=""/>
          <p:cNvPicPr/>
          <p:nvPr/>
        </p:nvPicPr>
        <p:blipFill>
          <a:blip r:embed="rId1"/>
          <a:stretch/>
        </p:blipFill>
        <p:spPr>
          <a:xfrm>
            <a:off x="231840" y="6480"/>
            <a:ext cx="84852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26"/>
          <p:cNvSpPr/>
          <p:nvPr/>
        </p:nvSpPr>
        <p:spPr>
          <a:xfrm>
            <a:off x="533520" y="838080"/>
            <a:ext cx="8381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Lucida Sans Unicode"/>
              </a:rPr>
              <a:t>When starting the key, make su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Sans Unicode"/>
              </a:rPr>
              <a:t>The first step in the key should divide the organisms in roughly ha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027"/>
          <p:cNvSpPr/>
          <p:nvPr/>
        </p:nvSpPr>
        <p:spPr>
          <a:xfrm>
            <a:off x="228600" y="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da2bf"/>
                </a:solidFill>
                <a:latin typeface="Arial"/>
              </a:rPr>
              <a:t>In constructing keys, keep the following in min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1029" descr="http://3ubio.weebly.com/uploads/1/6/8/1/16813674/7481061_orig.png"/>
          <p:cNvPicPr/>
          <p:nvPr/>
        </p:nvPicPr>
        <p:blipFill>
          <a:blip r:embed="rId1"/>
          <a:stretch/>
        </p:blipFill>
        <p:spPr>
          <a:xfrm>
            <a:off x="990720" y="2666880"/>
            <a:ext cx="71085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533520" y="53352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ffff"/>
                </a:solidFill>
                <a:uFillTx/>
                <a:latin typeface="Arial"/>
              </a:rPr>
              <a:t>Other Characteristics of a Good Dichotomous K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1. Try and make the choice a positive one – something “is” instead of “is not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http://www.quia.com/files/quia/users/hlrbiology/Honors_Biology/10_Classification/dichotomous_key01.jpg"/>
          <p:cNvPicPr/>
          <p:nvPr/>
        </p:nvPicPr>
        <p:blipFill>
          <a:blip r:embed="rId1"/>
          <a:stretch/>
        </p:blipFill>
        <p:spPr>
          <a:xfrm>
            <a:off x="3352680" y="1905120"/>
            <a:ext cx="556272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Content Placeholder 1"/>
          <p:cNvSpPr/>
          <p:nvPr/>
        </p:nvSpPr>
        <p:spPr>
          <a:xfrm>
            <a:off x="457200" y="1295280"/>
            <a:ext cx="8186760" cy="28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Content Placeholder 1"/>
          <p:cNvSpPr/>
          <p:nvPr/>
        </p:nvSpPr>
        <p:spPr>
          <a:xfrm>
            <a:off x="0" y="0"/>
            <a:ext cx="35053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ffffff"/>
                </a:solidFill>
                <a:latin typeface="Arial"/>
              </a:rPr>
              <a:t>2. Both choices of a pair should be about the same attribute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ffffff"/>
                </a:solidFill>
                <a:latin typeface="Arial"/>
              </a:rPr>
              <a:t>If possible, start both choices of a pair with the same word, describing alternates of the same characteristic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ffffff"/>
                </a:solidFill>
                <a:latin typeface="Arial"/>
              </a:rPr>
              <a:t>3. Each pair of choices should be about a different attribu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2" descr="https://gcps.desire2learn.com/d2l/lor/viewer/viewFile.d2lfile/6605/17535/shark3.PNG"/>
          <p:cNvPicPr/>
          <p:nvPr/>
        </p:nvPicPr>
        <p:blipFill>
          <a:blip r:embed="rId1"/>
          <a:stretch/>
        </p:blipFill>
        <p:spPr>
          <a:xfrm>
            <a:off x="3352680" y="152280"/>
            <a:ext cx="5639040" cy="50547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4"/>
          <p:cNvSpPr/>
          <p:nvPr/>
        </p:nvSpPr>
        <p:spPr>
          <a:xfrm>
            <a:off x="3352680" y="5638680"/>
            <a:ext cx="5791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ffffff"/>
                </a:solidFill>
                <a:latin typeface="Arial"/>
              </a:rPr>
              <a:t>4. Try and use each attribute only onc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28600" y="380880"/>
            <a:ext cx="4343400" cy="64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5. Use measurements rather than terms like large/small, big/little or many/fe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ffffff"/>
                </a:solidFill>
                <a:latin typeface="Arial"/>
              </a:rPr>
              <a:t>(Note: Comparisons with structures on the organism could also be used if measurements are not possible. Example: The tail is longer than the body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6.Use constant characteristics, rather than ones tha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5" descr="http://www.schools.ccps.k12.va.us/sites/HIGH/solquiz/Document%20Library/1/EOC07Biology/20.jpg"/>
          <p:cNvPicPr/>
          <p:nvPr/>
        </p:nvPicPr>
        <p:blipFill>
          <a:blip r:embed="rId1"/>
          <a:stretch/>
        </p:blipFill>
        <p:spPr>
          <a:xfrm>
            <a:off x="5181480" y="1066680"/>
            <a:ext cx="36277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Content Placeholder 1"/>
          <p:cNvSpPr/>
          <p:nvPr/>
        </p:nvSpPr>
        <p:spPr>
          <a:xfrm>
            <a:off x="457200" y="1295280"/>
            <a:ext cx="8186760" cy="28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Content Placeholder 1"/>
          <p:cNvSpPr/>
          <p:nvPr/>
        </p:nvSpPr>
        <p:spPr>
          <a:xfrm>
            <a:off x="0" y="68580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Lucida Sans Unicode"/>
              </a:rPr>
              <a:t>When finish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Sans Unicode"/>
              </a:rPr>
              <a:t>There should be one less step than there are total organisms to classif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5" descr="https://www.cinchlearning.com/clarity/cinch/glencoe_science_2012_texas/images/ebooks/sci7/201_2/sci_201_2_figure9.jpg"/>
          <p:cNvPicPr/>
          <p:nvPr/>
        </p:nvPicPr>
        <p:blipFill>
          <a:blip r:embed="rId1"/>
          <a:stretch/>
        </p:blipFill>
        <p:spPr>
          <a:xfrm>
            <a:off x="914400" y="2971800"/>
            <a:ext cx="746748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Content Placeholder 1"/>
          <p:cNvSpPr/>
          <p:nvPr/>
        </p:nvSpPr>
        <p:spPr>
          <a:xfrm>
            <a:off x="457200" y="1295280"/>
            <a:ext cx="8186760" cy="28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28600" y="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da2bf"/>
                </a:solidFill>
                <a:latin typeface="Arial"/>
              </a:rPr>
              <a:t>When using a key, keep the following in min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Content Placeholder 1"/>
          <p:cNvSpPr/>
          <p:nvPr/>
        </p:nvSpPr>
        <p:spPr>
          <a:xfrm>
            <a:off x="0" y="68580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Sans Unicode"/>
              </a:rPr>
              <a:t>Always read both choices, even if the first seems to be the logical one at fir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Sans Unicode"/>
              </a:rPr>
              <a:t>Be sure you understand the meaning of the terms involved.  Do not gu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Sans Unicode"/>
              </a:rPr>
              <a:t>If the choice is not clear, for whatever reason, try both divisions.  If you end up with two possible answers, read descriptions of the two choices to help you dec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http://www.saskschools.ca/curr_content/biology20/Library/dich_key_items.jpg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228600" y="3049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da2bf"/>
                </a:solidFill>
                <a:latin typeface="Arial"/>
              </a:rPr>
              <a:t>Let’s Practi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52280" y="4572000"/>
            <a:ext cx="87631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1) Examine the objects close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2) Write down some characteristics that are vis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3) Select one that roughly divides the group in hal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4) Use the other characteristics to develop the rest of your ke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3:44:58Z</dcterms:created>
  <dc:creator>Kate Ribbins</dc:creator>
  <dc:description/>
  <dc:language>en-US</dc:language>
  <cp:lastModifiedBy>Phillips, Sarah</cp:lastModifiedBy>
  <cp:lastPrinted>2015-02-02T16:23:40Z</cp:lastPrinted>
  <dcterms:modified xsi:type="dcterms:W3CDTF">2015-02-02T16:35:41Z</dcterms:modified>
  <cp:revision>88</cp:revision>
  <dc:subject/>
  <dc:title>Diversity of Living Things</dc:title>
</cp:coreProperties>
</file>